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1.jpeg" ContentType="image/jpeg"/>
  <Override PartName="/ppt/media/image42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1BAB-27F9-4BFB-B908-416DBD1EE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93D6-2FB8-4CBE-B4BC-5CB1784D4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518F-54EC-4252-A8CD-5FED5FCF6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D4C0-6AF9-4AFD-B08F-7B4326715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4A70-F77B-4F77-B1BB-208D0B66B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2537-2E1A-4942-A235-7205E1556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884F-ACE1-4C52-85B0-744A7DDEC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7352-24A3-4DC1-8D45-F4951F785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068B-F04D-4D69-820C-73AF5D567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7AE6-FF10-4F71-8228-4E9F7175E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4941-1AA9-4FFA-801C-9F5ADF4C8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B5FB-C864-4888-BAE6-266E69B6B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3DCE-DC66-445B-B79A-633508BDA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C38C-B3F2-4E34-94D8-F9B85FE90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AA40-5B76-40E0-B45E-F0E9622F3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3C33-E090-442E-8D91-DDCDE4006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6DE7-1EEE-43C6-B16F-99FB8E40B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2FBD-AA54-4137-A657-2D99D4FAB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3073-A6EC-49C4-A93B-9893C4EED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656-379E-418A-BBA7-521179B6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0B9-EB3A-407F-BF50-ACC1EAF0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CA8-FAD5-4EC6-B50B-4070C1B7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953-B4F2-40CA-AEAB-1EFA2E76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AD3-5B32-41D8-9EF7-80D70EEB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7A9-AD62-404D-AE21-E6110271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FCF-818E-4476-BEE2-0AAFEF1E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168-BECC-45E2-AAE2-4D4B1E7B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C20-5D4A-4ED8-83E6-6EF51586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A83-F11B-4A05-A761-4426B438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ED1-66BA-4FF2-92C3-C3323045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2B0-4303-44C5-A512-71F20882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B86C-B7D4-4176-A663-AC241B6AD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97000" y="322272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15-1830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tting a Lid Back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ning a Can of Wor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ndora’s Bo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ippery slop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king the Fir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www.cartoonstock.com/newscartoons/cartoonists/tmc/lowres/tmcn813l.jpg"/>
          <p:cNvPicPr/>
          <p:nvPr/>
        </p:nvPicPr>
        <p:blipFill>
          <a:blip r:embed="rId1"/>
          <a:stretch/>
        </p:blipFill>
        <p:spPr>
          <a:xfrm>
            <a:off x="5943600" y="0"/>
            <a:ext cx="2886120" cy="336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historyhome.co.uk/pict2/liberty.jpg"/>
          <p:cNvPicPr/>
          <p:nvPr/>
        </p:nvPicPr>
        <p:blipFill>
          <a:blip r:embed="rId2"/>
          <a:stretch/>
        </p:blipFill>
        <p:spPr>
          <a:xfrm>
            <a:off x="380880" y="114480"/>
            <a:ext cx="411480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52280" y="182520"/>
            <a:ext cx="8991720" cy="152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acaee"/>
                </a:solidFill>
                <a:latin typeface="BlackChancery"/>
              </a:rPr>
              <a:t>The Germanic Confederation, 1815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map-German Confederation-1815"/>
          <p:cNvPicPr/>
          <p:nvPr/>
        </p:nvPicPr>
        <p:blipFill>
          <a:blip r:embed="rId1"/>
          <a:stretch/>
        </p:blipFill>
        <p:spPr>
          <a:xfrm>
            <a:off x="2328840" y="990720"/>
            <a:ext cx="4834080" cy="5638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map-Europe after the Congress of Vienna, 1815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38080" y="762120"/>
            <a:ext cx="7570800" cy="5867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4" name="Text Box 2"/>
          <p:cNvSpPr/>
          <p:nvPr/>
        </p:nvSpPr>
        <p:spPr>
          <a:xfrm>
            <a:off x="152280" y="76320"/>
            <a:ext cx="8458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caee"/>
                </a:solidFill>
                <a:latin typeface="BlackChancery"/>
              </a:rPr>
              <a:t>Europe After the Congress of Vien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>
            <a:hlinkClick r:id="rId2" action="ppaction://hlinksldjump"/>
          </p:cNvPr>
          <p:cNvSpPr/>
          <p:nvPr/>
        </p:nvSpPr>
        <p:spPr>
          <a:xfrm>
            <a:off x="85345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louis18"/>
          <p:cNvPicPr/>
          <p:nvPr/>
        </p:nvPicPr>
        <p:blipFill>
          <a:blip r:embed="rId1"/>
          <a:stretch/>
        </p:blipFill>
        <p:spPr>
          <a:xfrm>
            <a:off x="685800" y="685800"/>
            <a:ext cx="4087800" cy="5407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81480" y="685800"/>
            <a:ext cx="3200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uis XVIII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ing of France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814-1824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hamber of Peer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hamber of Deputi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franchis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26" descr="Alexander_1"/>
          <p:cNvPicPr/>
          <p:nvPr/>
        </p:nvPicPr>
        <p:blipFill>
          <a:blip r:embed="rId1"/>
          <a:stretch/>
        </p:blipFill>
        <p:spPr>
          <a:xfrm>
            <a:off x="609480" y="609480"/>
            <a:ext cx="448164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638680" y="609480"/>
            <a:ext cx="28195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xander I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sar of Russia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801-18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c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theopenutopia.org/wp-content/uploads/2011/01/art25.jpg"/>
          <p:cNvPicPr/>
          <p:nvPr/>
        </p:nvPicPr>
        <p:blipFill>
          <a:blip r:embed="rId3"/>
          <a:stretch/>
        </p:blipFill>
        <p:spPr>
          <a:xfrm>
            <a:off x="838080" y="2209680"/>
            <a:ext cx="278136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socialmediaphilanthropy.com/wp-content/uploads/2010/09/angry-mob2.jpg"/>
          <p:cNvPicPr/>
          <p:nvPr/>
        </p:nvPicPr>
        <p:blipFill>
          <a:blip r:embed="rId4"/>
          <a:stretch/>
        </p:blipFill>
        <p:spPr>
          <a:xfrm>
            <a:off x="4114800" y="1614600"/>
            <a:ext cx="47624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2.bp.blogspot.com/-VItIUN_uZgM/TfnitsmOgeI/AAAAAAAAAFA/rN9yBIFVLEU/s1600/constitutional+government+cartoon.jpg"/>
          <p:cNvPicPr/>
          <p:nvPr/>
        </p:nvPicPr>
        <p:blipFill>
          <a:blip r:embed="rId2"/>
          <a:stretch/>
        </p:blipFill>
        <p:spPr>
          <a:xfrm>
            <a:off x="685800" y="2443320"/>
            <a:ext cx="3809880" cy="3190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www.megalifesuccess.com/wp-content/uploads/2010/05/Laissez-Faire.jpg"/>
          <p:cNvPicPr/>
          <p:nvPr/>
        </p:nvPicPr>
        <p:blipFill>
          <a:blip r:embed="rId3"/>
          <a:stretch/>
        </p:blipFill>
        <p:spPr>
          <a:xfrm>
            <a:off x="4724280" y="17226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ttp://4.bp.blogspot.com/_s57ISZAyJXI/RsRcSJLR8TI/AAAAAAAAAQs/BOPvK_G1C3w/s400/mike0808.gif"/>
          <p:cNvPicPr/>
          <p:nvPr/>
        </p:nvPicPr>
        <p:blipFill>
          <a:blip r:embed="rId1"/>
          <a:stretch/>
        </p:blipFill>
        <p:spPr>
          <a:xfrm>
            <a:off x="1066680" y="1676520"/>
            <a:ext cx="5234040" cy="390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rv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38120" y="3047760"/>
            <a:ext cx="1428840" cy="4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i-cdn.apartmenttherapy.com/uimages/chicago/flintstones110210.jpg"/>
          <p:cNvPicPr/>
          <p:nvPr/>
        </p:nvPicPr>
        <p:blipFill>
          <a:blip r:embed="rId3"/>
          <a:stretch/>
        </p:blipFill>
        <p:spPr>
          <a:xfrm>
            <a:off x="685800" y="2362320"/>
            <a:ext cx="381492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batr.org/sitebuildercontent/sitebuilderpictures/france.jpg"/>
          <p:cNvPicPr/>
          <p:nvPr/>
        </p:nvPicPr>
        <p:blipFill>
          <a:blip r:embed="rId4"/>
          <a:stretch/>
        </p:blipFill>
        <p:spPr>
          <a:xfrm>
            <a:off x="4876920" y="3200400"/>
            <a:ext cx="3547800" cy="2752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://cdn.whatculture.com/wp-content/uploads/2010/10/doc-and-marty.jpg"/>
          <p:cNvPicPr/>
          <p:nvPr/>
        </p:nvPicPr>
        <p:blipFill>
          <a:blip r:embed="rId5"/>
          <a:stretch/>
        </p:blipFill>
        <p:spPr>
          <a:xfrm>
            <a:off x="6396120" y="457200"/>
            <a:ext cx="21510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ww.zum.de/whkmla/histatlas/samerica/sam1830.gif"/>
          <p:cNvPicPr/>
          <p:nvPr/>
        </p:nvPicPr>
        <p:blipFill>
          <a:blip r:embed="rId1"/>
          <a:stretch/>
        </p:blipFill>
        <p:spPr>
          <a:xfrm>
            <a:off x="457200" y="762120"/>
            <a:ext cx="5970600" cy="4800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7280" y="609120"/>
            <a:ext cx="289584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roe Doctrine &amp; Britannia Rules the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sh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ain- Liberalism/Radical/Rea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-Nationalism- Austr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in-Liberalism-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-Reactionary- Louis XVIII/Charles X- Ultraroy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 Confederation-Carls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-Decembr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gium-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- Romantic Ottoman 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ongVienna"/>
          <p:cNvPicPr/>
          <p:nvPr/>
        </p:nvPicPr>
        <p:blipFill>
          <a:blip r:embed="rId1"/>
          <a:stretch/>
        </p:blipFill>
        <p:spPr>
          <a:xfrm>
            <a:off x="990720" y="990720"/>
            <a:ext cx="7010280" cy="4751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berations in Vi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ITALY ROUND 1820"/>
          <p:cNvPicPr/>
          <p:nvPr/>
        </p:nvPicPr>
        <p:blipFill>
          <a:blip r:embed="rId1"/>
          <a:stretch/>
        </p:blipFill>
        <p:spPr>
          <a:xfrm>
            <a:off x="0" y="0"/>
            <a:ext cx="5133960" cy="8305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05520" y="60948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risings in Ita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1820s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20: Naples &amp; Palerm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s. the Bourbon dynasty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21: Tur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s. the ruling house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dmont-Sardinia)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any mo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64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se-&gt;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380520"/>
            <a:ext cx="7543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Prices Rise(Corn Laws 1815-&gt;Peterloo-&gt;6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://www.newmanchesterwalks.com/wp-content/uploads/2010/08/Peterloo-plaque.jpg"/>
          <p:cNvPicPr/>
          <p:nvPr/>
        </p:nvPicPr>
        <p:blipFill>
          <a:blip r:embed="rId1"/>
          <a:stretch/>
        </p:blipFill>
        <p:spPr>
          <a:xfrm>
            <a:off x="5638680" y="1219320"/>
            <a:ext cx="2551320" cy="2392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www.xtimeline.com/__UserPic_Large/40139/evt091209135400280.jpg"/>
          <p:cNvPicPr/>
          <p:nvPr/>
        </p:nvPicPr>
        <p:blipFill>
          <a:blip r:embed="rId2"/>
          <a:stretch/>
        </p:blipFill>
        <p:spPr>
          <a:xfrm>
            <a:off x="1730520" y="4038480"/>
            <a:ext cx="4954320" cy="2590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http://www.nwdailymarker.com/wp-content/uploads/2011/08/Censorship.jpg"/>
          <p:cNvPicPr/>
          <p:nvPr/>
        </p:nvPicPr>
        <p:blipFill>
          <a:blip r:embed="rId3"/>
          <a:stretch/>
        </p:blipFill>
        <p:spPr>
          <a:xfrm>
            <a:off x="1057320" y="1600200"/>
            <a:ext cx="26766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00240" y="6094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gène Delacroix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eece on the Ruin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 Missolongh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8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delacroix_greece"/>
          <p:cNvPicPr/>
          <p:nvPr/>
        </p:nvPicPr>
        <p:blipFill>
          <a:blip r:embed="rId1"/>
          <a:stretch/>
        </p:blipFill>
        <p:spPr>
          <a:xfrm>
            <a:off x="0" y="0"/>
            <a:ext cx="477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byronphillips"/>
          <p:cNvPicPr/>
          <p:nvPr/>
        </p:nvPicPr>
        <p:blipFill>
          <a:blip r:embed="rId1"/>
          <a:stretch/>
        </p:blipFill>
        <p:spPr>
          <a:xfrm>
            <a:off x="609480" y="609480"/>
            <a:ext cx="4740480" cy="5776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19560" y="198072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rge Gord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k.a. Lord Byr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788-1824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Ode on a Grecian Urn”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ou still unravish'd bride of quietness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ou foster-child of silence and slow tim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lvan historian, who canst thus expres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lowery tale more sweetly than our rhyme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leaf-fring'd legend haunt about thy shap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deities or mortals, or of both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empe or the dales of Arcady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men or gods are these? What maidens loth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mad pursuit? What struggle to escape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pipes and timbrels? What wild ecstasy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John Keat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e2525"/>
          <p:cNvPicPr/>
          <p:nvPr/>
        </p:nvPicPr>
        <p:blipFill>
          <a:blip r:embed="rId1"/>
          <a:stretch/>
        </p:blipFill>
        <p:spPr>
          <a:xfrm>
            <a:off x="1676520" y="1447920"/>
            <a:ext cx="5943600" cy="4263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ingdom of Greece (est. 18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26" descr="wartburg"/>
          <p:cNvPicPr/>
          <p:nvPr/>
        </p:nvPicPr>
        <p:blipFill>
          <a:blip r:embed="rId1"/>
          <a:stretch/>
        </p:blipFill>
        <p:spPr>
          <a:xfrm>
            <a:off x="228600" y="228600"/>
            <a:ext cx="4064040" cy="3720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27" descr="wartburgfest 2"/>
          <p:cNvPicPr/>
          <p:nvPr/>
        </p:nvPicPr>
        <p:blipFill>
          <a:blip r:embed="rId2"/>
          <a:stretch/>
        </p:blipFill>
        <p:spPr>
          <a:xfrm>
            <a:off x="4495680" y="228600"/>
            <a:ext cx="4496040" cy="3735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149400" y="4176360"/>
            <a:ext cx="626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rtburg Festival of German fraternit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ctober 1817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Association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http://www.uncp.edu/home/rwb/chartist.jpg"/>
          <p:cNvPicPr/>
          <p:nvPr/>
        </p:nvPicPr>
        <p:blipFill>
          <a:blip r:embed="rId3"/>
          <a:stretch/>
        </p:blipFill>
        <p:spPr>
          <a:xfrm>
            <a:off x="6111720" y="4114800"/>
            <a:ext cx="28479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43600" y="609480"/>
            <a:ext cx="26668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lsbad Decre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l Sand’s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http://www.preussen-chronik.de/bilder/583_Die_Hinrichtung_des_Karl_Ludwig_Sand.jpeg"/>
          <p:cNvPicPr/>
          <p:nvPr/>
        </p:nvPicPr>
        <p:blipFill>
          <a:blip r:embed="rId1"/>
          <a:stretch/>
        </p:blipFill>
        <p:spPr>
          <a:xfrm>
            <a:off x="685800" y="1841400"/>
            <a:ext cx="464832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embrist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prising (Dec. 14, 18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Protest_14_12_1825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nicholas"/>
          <p:cNvPicPr/>
          <p:nvPr/>
        </p:nvPicPr>
        <p:blipFill>
          <a:blip r:embed="rId1"/>
          <a:stretch/>
        </p:blipFill>
        <p:spPr>
          <a:xfrm>
            <a:off x="609480" y="609480"/>
            <a:ext cx="4191120" cy="5678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81480" y="609480"/>
            <a:ext cx="32767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holas I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sar of Russia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825-18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harles10france"/>
          <p:cNvPicPr/>
          <p:nvPr/>
        </p:nvPicPr>
        <p:blipFill>
          <a:blip r:embed="rId1"/>
          <a:stretch/>
        </p:blipFill>
        <p:spPr>
          <a:xfrm>
            <a:off x="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81480" y="609120"/>
            <a:ext cx="3276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X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ing of France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824-1830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ensation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2280" y="349200"/>
            <a:ext cx="8839440" cy="87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acaee"/>
                </a:solidFill>
                <a:latin typeface="BlackChancery"/>
              </a:rPr>
              <a:t>Main Objective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1828800"/>
            <a:ext cx="8001000" cy="427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ad20c"/>
              </a:buClr>
              <a:buFont typeface="Monarchbat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ts job was to undo everything that Napoléon had do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01400">
              <a:lnSpc>
                <a:spcPct val="100000"/>
              </a:lnSpc>
              <a:spcBef>
                <a:spcPts val="1624"/>
              </a:spcBef>
              <a:buClr>
                <a:srgbClr val="ff9f9f"/>
              </a:buClr>
              <a:buFont typeface="DavysOtherDingbats"/>
              <a:buChar char="V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duce France to its old boundarie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her frontiers were pushed back to 1790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01400">
              <a:lnSpc>
                <a:spcPct val="100000"/>
              </a:lnSpc>
              <a:spcBef>
                <a:spcPts val="1624"/>
              </a:spcBef>
              <a:buClr>
                <a:srgbClr val="ff9f9f"/>
              </a:buClr>
              <a:buFont typeface="DavysOtherDingbats"/>
              <a:buChar char="V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store as many of the old monarchies as possible that had lost their thrones during the Napoléonic e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ad20c"/>
              </a:buClr>
              <a:buFont typeface="Monarchbat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pported the resolution: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here is always an alternative to conflic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Delacroix_liberty"/>
          <p:cNvPicPr/>
          <p:nvPr/>
        </p:nvPicPr>
        <p:blipFill>
          <a:blip r:embed="rId1"/>
          <a:stretch/>
        </p:blipFill>
        <p:spPr>
          <a:xfrm>
            <a:off x="838080" y="681120"/>
            <a:ext cx="7391520" cy="6176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gène Delacroix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berty Leading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wappers01"/>
          <p:cNvPicPr/>
          <p:nvPr/>
        </p:nvPicPr>
        <p:blipFill>
          <a:blip r:embed="rId1"/>
          <a:stretch/>
        </p:blipFill>
        <p:spPr>
          <a:xfrm>
            <a:off x="955800" y="984240"/>
            <a:ext cx="7230960" cy="4889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 in Brussels, 18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image002-1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sh uprising against Russia (Nov. 1830 - Sept. 18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warszawa"/>
          <p:cNvPicPr/>
          <p:nvPr/>
        </p:nvPicPr>
        <p:blipFill>
          <a:blip r:embed="rId1"/>
          <a:stretch/>
        </p:blipFill>
        <p:spPr>
          <a:xfrm>
            <a:off x="3886200" y="1981080"/>
            <a:ext cx="4495680" cy="3416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litografia"/>
          <p:cNvPicPr/>
          <p:nvPr/>
        </p:nvPicPr>
        <p:blipFill>
          <a:blip r:embed="rId2"/>
          <a:stretch/>
        </p:blipFill>
        <p:spPr>
          <a:xfrm>
            <a:off x="685800" y="1981080"/>
            <a:ext cx="2575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3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s, Suppression, Occupation, Nationalism, Liberalism, Radicalism, Reactionary, Romanticis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es Europe 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metternich_youngjpg"/>
          <p:cNvPicPr/>
          <p:nvPr/>
        </p:nvPicPr>
        <p:blipFill>
          <a:blip r:embed="rId1"/>
          <a:stretch/>
        </p:blipFill>
        <p:spPr>
          <a:xfrm>
            <a:off x="609480" y="533520"/>
            <a:ext cx="4338720" cy="5742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0" y="609480"/>
            <a:ext cx="41148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mens von Metternich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eign minister of Austria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809-18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talleyrand_malkovich"/>
          <p:cNvPicPr/>
          <p:nvPr/>
        </p:nvPicPr>
        <p:blipFill>
          <a:blip r:embed="rId1"/>
          <a:stretch/>
        </p:blipFill>
        <p:spPr>
          <a:xfrm>
            <a:off x="4419720" y="533520"/>
            <a:ext cx="3943080" cy="34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talley2"/>
          <p:cNvPicPr/>
          <p:nvPr/>
        </p:nvPicPr>
        <p:blipFill>
          <a:blip r:embed="rId2"/>
          <a:stretch/>
        </p:blipFill>
        <p:spPr>
          <a:xfrm>
            <a:off x="685800" y="533520"/>
            <a:ext cx="3021120" cy="35049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4193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Maurice de Talleyran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eign Minister of Fra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edl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rtrayed by John Malkovi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Tallyrand"/>
          <p:cNvPicPr/>
          <p:nvPr/>
        </p:nvPicPr>
        <p:blipFill>
          <a:blip r:embed="rId3"/>
          <a:stretch/>
        </p:blipFill>
        <p:spPr>
          <a:xfrm>
            <a:off x="152280" y="4267080"/>
            <a:ext cx="1865520" cy="2590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2280" y="228600"/>
            <a:ext cx="8839440" cy="15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acaee"/>
                </a:solidFill>
                <a:latin typeface="BlackChancery"/>
              </a:rPr>
              <a:t>Key Principles Established </a:t>
            </a:r>
            <a:br>
              <a:rPr sz="4900"/>
            </a:br>
            <a:r>
              <a:rPr b="0" lang="en-US" sz="4900" spc="-1" strike="noStrike">
                <a:solidFill>
                  <a:srgbClr val="cacaee"/>
                </a:solidFill>
                <a:latin typeface="BlackChancery"/>
              </a:rPr>
              <a:t>at Vienn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514600" y="2133720"/>
            <a:ext cx="4800600" cy="218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>
              <a:lnSpc>
                <a:spcPct val="100000"/>
              </a:lnSpc>
              <a:spcBef>
                <a:spcPts val="2126"/>
              </a:spcBef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Balance of Pow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spcBef>
                <a:spcPts val="2126"/>
              </a:spcBef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Legitima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spcBef>
                <a:spcPts val="2126"/>
              </a:spcBef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Compens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143000" y="4724280"/>
            <a:ext cx="7620120" cy="188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ad20c"/>
              </a:buClr>
              <a:buFont typeface="Monarchbat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Coalition forces would occupy France fo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3-5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ad20c"/>
              </a:buClr>
              <a:buFont typeface="Monarchbat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rance would have to pay an indemnity of 700,000,000 fran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1830240"/>
            <a:ext cx="81532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France </a:t>
            </a:r>
            <a:r>
              <a:rPr b="0" lang="en-US" sz="2600" spc="-1" strike="noStrike">
                <a:solidFill>
                  <a:srgbClr val="60606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 territory -&gt;Napolé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Russia</a:t>
            </a:r>
            <a:r>
              <a:rPr b="0" lang="en-US" sz="2600" spc="-1" strike="noStrike">
                <a:solidFill>
                  <a:srgbClr val="60606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 -&gt;Duchy of Warsaw (Polan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Prussia</a:t>
            </a:r>
            <a:r>
              <a:rPr b="0" lang="en-US" sz="2600" spc="-1" strike="noStrike">
                <a:solidFill>
                  <a:srgbClr val="60606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 -&gt;half of Saxony, parts of Poland, and other German territo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A </a:t>
            </a:r>
            <a:r>
              <a:rPr b="1" lang="en-US" sz="2600" spc="-1" strike="noStrike">
                <a:solidFill>
                  <a:srgbClr val="606060"/>
                </a:solidFill>
                <a:latin typeface="Comic Sans MS"/>
              </a:rPr>
              <a:t>Germanic Confederation</a:t>
            </a: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 of 30+ states (including Prussia) &lt;-previous 300, under Austrian rul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Austria</a:t>
            </a:r>
            <a:r>
              <a:rPr b="0" lang="en-US" sz="2600" spc="-1" strike="noStrike">
                <a:solidFill>
                  <a:srgbClr val="60606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 -&gt; recovers land, plus more in Germany and Ital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The House of Orange</a:t>
            </a:r>
            <a:r>
              <a:rPr b="0" lang="en-US" sz="2600" spc="-1" strike="noStrike">
                <a:solidFill>
                  <a:srgbClr val="60606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 -&gt;Dutch Republic and the Austrian Netherlands to ru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2280" y="152280"/>
            <a:ext cx="8839440" cy="8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acaee"/>
                </a:solidFill>
                <a:latin typeface="BlackChancery"/>
              </a:rPr>
              <a:t>Changes Made at Vienna (1)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ongress of Vienna  doc - Jun 9 1815"/>
          <p:cNvPicPr/>
          <p:nvPr/>
        </p:nvPicPr>
        <p:blipFill>
          <a:blip r:embed="rId1"/>
          <a:stretch/>
        </p:blipFill>
        <p:spPr>
          <a:xfrm>
            <a:off x="6705720" y="914400"/>
            <a:ext cx="2133360" cy="1830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Tallyrand"/>
          <p:cNvPicPr/>
          <p:nvPr/>
        </p:nvPicPr>
        <p:blipFill>
          <a:blip r:embed="rId2"/>
          <a:stretch/>
        </p:blipFill>
        <p:spPr>
          <a:xfrm>
            <a:off x="7478640" y="3048120"/>
            <a:ext cx="1317600" cy="1828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2280" y="76320"/>
            <a:ext cx="8839440" cy="8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acaee"/>
                </a:solidFill>
                <a:latin typeface="BlackChancery"/>
              </a:rPr>
              <a:t>Changes Made at Vienna (2)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19040" y="1371600"/>
            <a:ext cx="8305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8c93"/>
                </a:solidFill>
                <a:latin typeface="Comic Sans MS"/>
              </a:rPr>
              <a:t>Sweden gains Norway loses Fin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8c93"/>
                </a:solidFill>
                <a:latin typeface="Comic Sans MS"/>
              </a:rPr>
              <a:t>Britain gets Cape Colony, South Africa (see Boer War 1898), and other colonies in Africa and As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8c93"/>
                </a:solidFill>
                <a:latin typeface="Comic Sans MS"/>
              </a:rPr>
              <a:t>Sardinia -&gt;Piedmont, Nice, Savoy, and Geno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8c93"/>
                </a:solidFill>
                <a:latin typeface="Comic Sans MS"/>
              </a:rPr>
              <a:t>Bourbon Ferdinand I restored -&gt; Two Sicil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8c93"/>
                </a:solidFill>
                <a:latin typeface="Comic Sans MS"/>
              </a:rPr>
              <a:t>Slave trade condemned (at British urging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8c93"/>
                </a:solidFill>
                <a:latin typeface="Comic Sans MS"/>
              </a:rPr>
              <a:t>Freedom of navigation guaranteed for many riv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ur1815"/>
          <p:cNvPicPr/>
          <p:nvPr/>
        </p:nvPicPr>
        <p:blipFill>
          <a:blip r:embed="rId1"/>
          <a:stretch/>
        </p:blipFill>
        <p:spPr>
          <a:xfrm>
            <a:off x="0" y="0"/>
            <a:ext cx="98362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23:15:23Z</dcterms:created>
  <dc:creator>William Gray</dc:creator>
  <dc:description/>
  <dc:language>en-US</dc:language>
  <cp:lastModifiedBy>Local User</cp:lastModifiedBy>
  <cp:lastPrinted>2006-10-11T15:39:59Z</cp:lastPrinted>
  <dcterms:modified xsi:type="dcterms:W3CDTF">2011-12-19T19:23:41Z</dcterms:modified>
  <cp:revision>71</cp:revision>
  <dc:subject/>
  <dc:title>Putting a Lid Back on Europe, 1815-1830 History 104 / February 23, 2005  I. The “Concert of Europe” II. Two ideologies threatening to the status quo III. The power edifice rumbles: the revolutions of 1830</dc:title>
</cp:coreProperties>
</file>